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F1F6-0C53-45B8-A432-FDC2C8210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8FEB5-14E3-4FF8-A289-2A21BDDFC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8CA11-13AE-47CF-8AB9-56F1DFD6A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B5CB9-727D-44E1-BBB1-D85A04097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D9C16-3FCC-49C3-8E4E-79A9BBB90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95B25-51B3-45F0-86F7-7AD55C098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4464E-CD9E-4A4B-AC82-7BE1FF2AA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09536-86BB-4F2D-9928-1EB4BF6DF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D47FF-CE67-4067-B702-420FBF1CA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D5B35-DF6B-4EFA-BF20-8887844C5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BFCF0-51DA-45CC-A5D0-E2C13860A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030B2-23A7-4EDE-AE49-B837FBD8F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5CD48-2A3D-4306-9656-23BF5DDA9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2A9D-5669-4107-A7AB-6B8451EF0E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RomaK</cp:lastModifiedBy>
  <dcterms:modified xsi:type="dcterms:W3CDTF">2015-09-04T09:35:26Z</dcterms:modified>
  <cp:revision>38</cp:revision>
  <dc:subject/>
  <dc:title>Slide 1</dc:title>
</cp:coreProperties>
</file>